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918-37CD-4D6B-9112-36467EF3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3A1-4C8E-4D47-8E78-C147C02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547-482A-4BE6-B6B3-5720402F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F20-BF73-4A82-AD95-47006E9C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E2B-FE33-43C4-B2B2-BC36C3C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495-EFA5-44E5-8B39-4F11421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AAD-37C6-417A-9D9F-EE43E76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996-6E9B-4F97-992F-0F0A712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9CF-D575-4707-8245-86532E8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D49-FEA4-4C59-B24D-C82B0A8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6E1-9631-4B8A-9DAE-38D4FBE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897-6919-45DF-8F57-97FE498B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11F-B0DC-4D78-A75C-E769464CD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8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第三节  金融期货（远期）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071720"/>
            <a:ext cx="8534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远期价格与期货价格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假设与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基本假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没有交易费用和税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市场参与者可以用相同的无风险利率借入与贷出资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合约无信用风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允许现货卖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出现套利机会，投资者将参与套利活动，使套利机会消失。我们计算的理论价格是在无套利机会下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均衡价格（理论价格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期货合约保证金帐户支付同样的无风险利率。这意味着投资者可以无成本地取得</a:t>
            </a:r>
            <a:r>
              <a:rPr b="0" lang="zh-CN" sz="2400" spc="-1" strike="noStrike">
                <a:solidFill>
                  <a:srgbClr val="000099"/>
                </a:solidFill>
                <a:latin typeface="华文楷体"/>
                <a:ea typeface="华文楷体"/>
              </a:rPr>
              <a:t>远期与期货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多头或空头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296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560" y="1357200"/>
            <a:ext cx="8458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现金收益的现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黄金、白银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值为负）， 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， 利率为无风险利率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金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负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-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-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42848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-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K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228240"/>
            <a:ext cx="8429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还本付息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利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交割的收入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(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得到本息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付现金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换得一单位标的资产，归还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收益给原所有者，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1000080"/>
            <a:ext cx="86295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年利率分别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而一种十年期债券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一年期远期合约的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后都将收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的利息，且第二次付息日在远期合约交割日之前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黄金的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0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其存储成本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年底支付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一年期黄金的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43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357200"/>
            <a:ext cx="8458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证券，并且所有收益再投资于该证券。其中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285560"/>
            <a:ext cx="86248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上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成立时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 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 ) 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&lt;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 –q)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143000"/>
            <a:ext cx="853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现在的点数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该指数所含股票的红利收益率预计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期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期货的市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求该期货合约多头的价值和期货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848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六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外汇远期与期货的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560" y="1219320"/>
            <a:ext cx="84582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外汇远期与期货的定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以本币表示的一单位外汇的即期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远期合约中约定的以本币表示的一单位外汇的交割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汇收益率为发行国连续复利的无风险利率，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外汇合约多头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外汇，并且所有收益再投资于该外汇。其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=0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得：利率平价公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其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利率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外汇综合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484360" y="4292640"/>
                <a:ext cx="350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700360" y="5157720"/>
                <a:ext cx="243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071360"/>
            <a:ext cx="86439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即期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前面的定价公式，当标的物无收益，或已知现金收益较小，或已知收益率较小时，期货价格大于即期现货价格；反之，期货价格小于即期现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收敛于标的物现货价格；这是由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套利行为决定的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预期未来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E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未来实际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未来实际现货价格的关系，就象期望值与实际值的关系一样，完全相等的概率极小，往往略大于或小于期货合约到期时的实际现货价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有关符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999720"/>
            <a:ext cx="84582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与期货合约的到期时间，单位为：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在时间，单位为：年。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远期与期货合约中以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为单位表示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剩余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价格；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的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中的交割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多头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期理论价格或期货理论价格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分别称为远期价格或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: 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到期的以连续复利计算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无风险利率（年利率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（二）远期价格与期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2193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os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，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恒定，到期日不变时，交割日相同的远期价格与期货价格应相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法预测时，远期价格与期货价格不等。它们之间的关系取决于标的资产与利率的相关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正相关时，期货价格高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负相关时，期货价格小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合约有效期的长短也决定了远期价格与期货价格的差异程度。但有效期只有数月时，两者差异较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税收、交易费用、保证金的处理方式、违约风险、流动性等都会影响远期价格与期货价格的差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多数情况下，我们认为远期价格与期货价格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476280"/>
            <a:ext cx="8643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金融期货（远期）的定价原理与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无套利定价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：在均衡的金融市场上，不存在套利机会。这意味着：两个具有相同盈亏的证券组合，应具有相同的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方法就是应用无套利原理对资产进行定价的方法。这种方法的基本做法是：构建两个投资组合，若其终值相等，则现值一定相等。根据这种相等关系，构造包含相应衍生品的方程式，求衍生品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4803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）标的资产的分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197000"/>
            <a:ext cx="8462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无收益资产：指期货合约到期前，标的资产不产生现金流的资产，如贴现债券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现金收益的资产：指期货合约到期前，标的资产产生完全可预测的现金流的资产，如附息债券和支付已知现金红利的股票、黄金、白银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收益率的资产：指期货合约到期前，标的资产产生与该资产现货价格成一定比率的资产，如外汇、股价指数、远期利率协议、远期外汇综合协议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228600"/>
            <a:ext cx="86439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（</a:t>
            </a: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K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购买一单位标的资产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-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30492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K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一标的证券为一年期贴现债券、剩余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远期合约多头，其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60, 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该债券的现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4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600200" y="3860640"/>
                <a:ext cx="594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3:40:33Z</dcterms:created>
  <dc:creator>fang</dc:creator>
  <dc:description/>
  <dc:language>en-US</dc:language>
  <cp:lastModifiedBy>Yitan Wang</cp:lastModifiedBy>
  <dcterms:modified xsi:type="dcterms:W3CDTF">2024-03-18T02:57:58Z</dcterms:modified>
  <cp:revision>347</cp:revision>
  <dc:subject/>
  <dc:title>没有幻灯片标题</dc:title>
</cp:coreProperties>
</file>